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93C89-97D4-421C-951B-54769A17F8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FDB23-F459-4603-A98D-0019061510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B898B-28C1-4C24-A102-D77419E64F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CD67B-7A91-4881-85DD-8A54162F5D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B5809-3D61-4DD7-97F3-5D00746B85D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11577-B32E-4B1B-98E5-6EC18A3C316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B62C8-CF99-4AB7-A9FC-D39E4AAFD81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EDD39-1D15-4066-B99E-2CDDF7F8A9F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44C23-222E-437E-AC06-8652D66AA5E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B867F-8D6D-4BE7-A2CD-E7478DA3668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A6703-3190-40F8-B2B0-A448E2F8CA6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90FAC-5705-4419-AD90-D9A954A54C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65D83-62A0-4E81-8029-45A583270B9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28E07-DFDA-4DDB-AA75-D58654090D2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68DCA-DCB1-435C-8A07-578EC76E3F3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2714D-A59C-4B18-B297-21EA54E1374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5A715-F21E-40CF-BE83-90746758E2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1A527-573D-431C-9E1C-40E1593BB0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B9F74-99D7-4EFC-9056-F31390A70B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7A7D2-72CE-4AC7-8CAA-1EB48C9A18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14138-A670-4378-A033-F13E7C9A03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9F299-C633-47F3-8A7E-4BB5954B92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DCDF6-9CA6-4892-B791-A7BC2C1CED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730C7-DF1C-4B5A-89B8-A90E241232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41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878787"/>
              </a:solidFill>
              <a:latin typeface="Lucida Grande"/>
            </a:endParaRPr>
          </a:p>
          <a:p>
            <a:pPr lvl="1" marL="171720" algn="ctr">
              <a:spcBef>
                <a:spcPts val="799"/>
              </a:spcBef>
              <a:buClr>
                <a:srgbClr val="878787"/>
              </a:buClr>
              <a:buFont typeface="Lucida Gran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878787"/>
              </a:solidFill>
              <a:latin typeface="Lucida Grande"/>
            </a:endParaRPr>
          </a:p>
          <a:p>
            <a:pPr lvl="2" marL="358920" algn="ctr">
              <a:spcBef>
                <a:spcPts val="799"/>
              </a:spcBef>
              <a:buClr>
                <a:srgbClr val="878787"/>
              </a:buClr>
              <a:buFont typeface="Lucida Gran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878787"/>
              </a:solidFill>
              <a:latin typeface="Lucida Grande"/>
            </a:endParaRPr>
          </a:p>
          <a:p>
            <a:pPr lvl="3" marL="546480" algn="ctr">
              <a:spcBef>
                <a:spcPts val="799"/>
              </a:spcBef>
              <a:buClr>
                <a:srgbClr val="878787"/>
              </a:buClr>
              <a:buFont typeface="Lucida Gran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878787"/>
              </a:solidFill>
              <a:latin typeface="Lucida Grande"/>
            </a:endParaRPr>
          </a:p>
          <a:p>
            <a:pPr lvl="4" marL="734040" algn="ctr">
              <a:spcBef>
                <a:spcPts val="799"/>
              </a:spcBef>
              <a:buClr>
                <a:srgbClr val="878787"/>
              </a:buClr>
              <a:buFont typeface="Lucida Gran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878787"/>
              </a:solidFill>
              <a:latin typeface="Lucida Grande"/>
            </a:endParaRPr>
          </a:p>
          <a:p>
            <a:pPr lvl="5" marL="734040" algn="ctr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878787"/>
              </a:solidFill>
              <a:latin typeface="Lucida Grande"/>
            </a:endParaRPr>
          </a:p>
          <a:p>
            <a:pPr lvl="6" marL="734040" algn="ctr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878787"/>
              </a:solidFill>
              <a:latin typeface="Lucida Gran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403840" y="6454440"/>
            <a:ext cx="28260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78787"/>
                </a:solidFill>
                <a:latin typeface="Lucida Grande"/>
                <a:ea typeface="Lucida Gran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9394C-183E-4AB9-BB4E-5D4E9854FFAA}" type="slidenum">
              <a:rPr b="0" lang="en-US" sz="1200" spc="-1" strike="noStrike">
                <a:solidFill>
                  <a:srgbClr val="878787"/>
                </a:solidFill>
                <a:latin typeface="Lucida Grande"/>
                <a:ea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04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2" marL="1104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3" marL="1562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4" marL="2019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5" marL="2019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6" marL="2019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8403840" y="6454440"/>
            <a:ext cx="28260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78787"/>
                </a:solidFill>
                <a:latin typeface="Lucida Grande"/>
                <a:ea typeface="Lucida Gran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1F83E-867C-4E0B-8BA4-211DE14DB3E5}" type="slidenum">
              <a:rPr b="0" lang="en-US" sz="1200" spc="-1" strike="noStrike">
                <a:solidFill>
                  <a:srgbClr val="878787"/>
                </a:solidFill>
                <a:latin typeface="Lucida Grande"/>
                <a:ea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hyperlink" Target="http://www.portpromotions.com/media/ecom/prodlg/1215797672_Europe%2520-%2520Egypt%2520-%2520Pyramids.jpg" TargetMode="External"/><Relationship Id="rId6" Type="http://schemas.openxmlformats.org/officeDocument/2006/relationships/image" Target="../media/image1.png"/><Relationship Id="rId7" Type="http://schemas.openxmlformats.org/officeDocument/2006/relationships/hyperlink" Target="http://www.portpromotions.com/media/ecom/prodlg/1215797672_Europe%20-%20Egypt%20-%20Pyramids.jpg" TargetMode="External"/><Relationship Id="rId8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africa-facts.org/wp-content/uploads/2014/12/Nile-River-Facts.jpg" TargetMode="External"/><Relationship Id="rId2" Type="http://schemas.openxmlformats.org/officeDocument/2006/relationships/hyperlink" Target="http://africa-facts.org/wp-content/uploads/2014/12/Nile-River-Facts.jpg" TargetMode="External"/><Relationship Id="rId3" Type="http://schemas.openxmlformats.org/officeDocument/2006/relationships/image" Target="../media/image12.png"/><Relationship Id="rId4" Type="http://schemas.openxmlformats.org/officeDocument/2006/relationships/slide" Target="slide12.xml"/><Relationship Id="rId5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2.valdosta.edu/~anmills/sadface.jpg" TargetMode="External"/><Relationship Id="rId2" Type="http://schemas.openxmlformats.org/officeDocument/2006/relationships/image" Target="../media/image13.png"/><Relationship Id="rId3" Type="http://schemas.openxmlformats.org/officeDocument/2006/relationships/hyperlink" Target="http://ww2.valdosta.edu/~anmills/sadface.jpg" TargetMode="External"/><Relationship Id="rId4" Type="http://schemas.openxmlformats.org/officeDocument/2006/relationships/slide" Target="slide9.xml"/><Relationship Id="rId5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.telegraph.co.uk/multimedia/archive/02797/APCAMEL_2797442b.jpg" TargetMode="Externa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woodlands-junior.kent.sch.uk/Homework/egypt/nile.htm" TargetMode="External"/><Relationship Id="rId3" Type="http://schemas.openxmlformats.org/officeDocument/2006/relationships/slide" Target="slide3.xml"/><Relationship Id="rId4" Type="http://schemas.openxmlformats.org/officeDocument/2006/relationships/slide" Target="slide1.xml"/><Relationship Id="rId5" Type="http://schemas.openxmlformats.org/officeDocument/2006/relationships/slide" Target="slide6.xml"/><Relationship Id="rId6" Type="http://schemas.openxmlformats.org/officeDocument/2006/relationships/slide" Target="slide12.xml"/><Relationship Id="rId7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hyperlink" Target="http://gdb.voanews.eu/017B5B34-C48F-4819-91F4-6E103EB2F908_mw800_s.jpg" TargetMode="External"/><Relationship Id="rId4" Type="http://schemas.openxmlformats.org/officeDocument/2006/relationships/hyperlink" Target="http://upload.wikimedia.org/wikipedia/commons/thumb/2/2b/White_and_Blue_Nile-en.svg/250px-White_and_Blue_Nile-en.svg.png" TargetMode="External"/><Relationship Id="rId5" Type="http://schemas.openxmlformats.org/officeDocument/2006/relationships/slide" Target="slide2.xml"/><Relationship Id="rId6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cleveleys.co.uk/wonders/greatpyramid.htm" TargetMode="External"/><Relationship Id="rId2" Type="http://schemas.openxmlformats.org/officeDocument/2006/relationships/image" Target="../media/image5.png"/><Relationship Id="rId3" Type="http://schemas.openxmlformats.org/officeDocument/2006/relationships/hyperlink" Target="http://www.cleveleys.co.uk/wonders/greatpyramid.htm" TargetMode="External"/><Relationship Id="rId4" Type="http://schemas.openxmlformats.org/officeDocument/2006/relationships/hyperlink" Target="http://www.portpromotions.com/media/ecom/prodlg/1215797672_Europe%2520-%2520Egypt%2520-%2520Pyramids.jpg" TargetMode="External"/><Relationship Id="rId5" Type="http://schemas.openxmlformats.org/officeDocument/2006/relationships/image" Target="../media/image1.png"/><Relationship Id="rId6" Type="http://schemas.openxmlformats.org/officeDocument/2006/relationships/hyperlink" Target="http://www.portpromotions.com/media/ecom/prodlg/1215797672_Europe%2520-%2520Egypt%2520-%2520Pyramids.jpg" TargetMode="External"/><Relationship Id="rId7" Type="http://schemas.openxmlformats.org/officeDocument/2006/relationships/slide" Target="slide1.xml"/><Relationship Id="rId8" Type="http://schemas.openxmlformats.org/officeDocument/2006/relationships/slide" Target="slide6.xml"/><Relationship Id="rId9" Type="http://schemas.openxmlformats.org/officeDocument/2006/relationships/slide" Target="slide12.xml"/><Relationship Id="rId10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mythicalireland.com/ancientsites/world/egypt_great_pyramid_camel.jpg" TargetMode="External"/><Relationship Id="rId2" Type="http://schemas.openxmlformats.org/officeDocument/2006/relationships/image" Target="../media/image6.png"/><Relationship Id="rId3" Type="http://schemas.openxmlformats.org/officeDocument/2006/relationships/hyperlink" Target="http://www.mythicalireland.com/ancientsites/world/egypt_great_pyramid_camel.jpg" TargetMode="External"/><Relationship Id="rId4" Type="http://schemas.openxmlformats.org/officeDocument/2006/relationships/slide" Target="slide1.xml"/><Relationship Id="rId5" Type="http://schemas.openxmlformats.org/officeDocument/2006/relationships/slide" Target="slide6.xml"/><Relationship Id="rId6" Type="http://schemas.openxmlformats.org/officeDocument/2006/relationships/slide" Target="slide12.xml"/><Relationship Id="rId7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slide" Target="slide8.xml"/><Relationship Id="rId4" Type="http://schemas.openxmlformats.org/officeDocument/2006/relationships/slide" Target="slide7.xml"/><Relationship Id="rId5" Type="http://schemas.openxmlformats.org/officeDocument/2006/relationships/hyperlink" Target="http://www.worldhistoricalsites.com/images/Valley%2520of%2520the%2520Kings.jpg" TargetMode="External"/><Relationship Id="rId6" Type="http://schemas.openxmlformats.org/officeDocument/2006/relationships/image" Target="../media/image7.png"/><Relationship Id="rId7" Type="http://schemas.openxmlformats.org/officeDocument/2006/relationships/hyperlink" Target="http://www.worldhistoricalsites.com/images/Valley%2520of%2520the%2520Kings.jpg" TargetMode="External"/><Relationship Id="rId8" Type="http://schemas.openxmlformats.org/officeDocument/2006/relationships/slide" Target="slide1.xml"/><Relationship Id="rId9" Type="http://schemas.openxmlformats.org/officeDocument/2006/relationships/slide" Target="slide12.xml"/><Relationship Id="rId10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9.xml"/><Relationship Id="rId3" Type="http://schemas.openxmlformats.org/officeDocument/2006/relationships/hyperlink" Target="http://images.clipartpanda.com/laughing-smiley-face-clip-art-smiley-face-clip-art10.jpeg" TargetMode="External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hyperlink" Target="http://www.icon100.com/up/3923/256/28-Sad-face.png" TargetMode="External"/><Relationship Id="rId4" Type="http://schemas.openxmlformats.org/officeDocument/2006/relationships/slide" Target="slide6.xml"/><Relationship Id="rId5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1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hyperlink" Target="http://www.losviajeros.com/Fotos.php?pl=2085" TargetMode="External"/><Relationship Id="rId6" Type="http://schemas.openxmlformats.org/officeDocument/2006/relationships/image" Target="../media/image11.png"/><Relationship Id="rId7" Type="http://schemas.openxmlformats.org/officeDocument/2006/relationships/hyperlink" Target="http://www.losviajeros.com/Fotos.php?pl=2085" TargetMode="External"/><Relationship Id="rId8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08200" y="290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Egypt: The Land of Wonder</a:t>
            </a:r>
            <a:br>
              <a:rPr sz="4400"/>
            </a:b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Ashley Brinkman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December 14, 2015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41200" y="3076560"/>
            <a:ext cx="4368960" cy="1752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3000"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9999"/>
                </a:solidFill>
                <a:uFillTx/>
                <a:latin typeface="Lucida Grande"/>
                <a:hlinkClick r:id="rId1" action="ppaction://hlinksldjump"/>
              </a:rPr>
              <a:t>Nile River</a:t>
            </a:r>
            <a:endParaRPr b="0" lang="en-US" sz="2700" spc="-1" strike="noStrike">
              <a:solidFill>
                <a:srgbClr val="878787"/>
              </a:solidFill>
              <a:latin typeface="Lucida Grande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9999"/>
                </a:solidFill>
                <a:uFillTx/>
                <a:latin typeface="Lucida Grande"/>
                <a:hlinkClick r:id="rId2" action="ppaction://hlinksldjump"/>
              </a:rPr>
              <a:t>Great Pyramids</a:t>
            </a:r>
            <a:endParaRPr b="0" lang="en-US" sz="2700" spc="-1" strike="noStrike">
              <a:solidFill>
                <a:srgbClr val="878787"/>
              </a:solidFill>
              <a:latin typeface="Lucida Grande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9999"/>
                </a:solidFill>
                <a:uFillTx/>
                <a:latin typeface="Lucida Grande"/>
                <a:hlinkClick r:id="rId3" action="ppaction://hlinksldjump"/>
              </a:rPr>
              <a:t>Camels</a:t>
            </a:r>
            <a:endParaRPr b="0" lang="en-US" sz="2700" spc="-1" strike="noStrike">
              <a:solidFill>
                <a:srgbClr val="878787"/>
              </a:solidFill>
              <a:latin typeface="Lucida Grande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9999"/>
                </a:solidFill>
                <a:uFillTx/>
                <a:latin typeface="Lucida Grande"/>
                <a:hlinkClick r:id="rId4" action="ppaction://hlinksldjump"/>
              </a:rPr>
              <a:t>Quiz Yourself</a:t>
            </a:r>
            <a:endParaRPr b="0" lang="en-US" sz="2700" spc="-1" strike="noStrike">
              <a:solidFill>
                <a:srgbClr val="878787"/>
              </a:solidFill>
              <a:latin typeface="Lucida Grande"/>
            </a:endParaRPr>
          </a:p>
        </p:txBody>
      </p:sp>
      <p:pic>
        <p:nvPicPr>
          <p:cNvPr id="8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565520" y="2276640"/>
            <a:ext cx="2651400" cy="33368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7318440" y="5156280"/>
            <a:ext cx="1396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 u="sng">
                <a:solidFill>
                  <a:srgbClr val="009999"/>
                </a:solidFill>
                <a:uFillTx/>
                <a:latin typeface="Lucida Grande"/>
                <a:ea typeface="Lucida Grande"/>
                <a:hlinkClick r:id="rId7"/>
              </a:rPr>
              <a:t>http://www.portpromotions.com/media/ecom/prodlg/1215797672_Europe%20-%20Egypt%20-%20Pyramids.jpg</a:t>
            </a:r>
            <a:endParaRPr b="0" lang="en-US" sz="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Correct!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3" name=""/>
          <p:cNvSpPr/>
          <p:nvPr/>
        </p:nvSpPr>
        <p:spPr>
          <a:xfrm>
            <a:off x="3159360" y="4978440"/>
            <a:ext cx="255348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 u="sng">
                <a:solidFill>
                  <a:srgbClr val="009999"/>
                </a:solidFill>
                <a:uFillTx/>
                <a:latin typeface="Lucida Grande"/>
                <a:ea typeface="Lucida Grande"/>
                <a:hlinkClick r:id="rId1"/>
              </a:rPr>
              <a:t>http://africa-facts.org/wp-content/uploads/2014/12/Nile-River-Facts.jpg</a:t>
            </a:r>
            <a:endParaRPr b="0" lang="en-US" sz="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3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365200" y="1549440"/>
            <a:ext cx="4403880" cy="33019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527880" y="5816520"/>
            <a:ext cx="2247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Lucida Grande"/>
                <a:ea typeface="Lucida Grande"/>
                <a:hlinkClick r:id="rId4" action="ppaction://hlinksldjump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Oops…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3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21040" y="1625760"/>
            <a:ext cx="3301920" cy="33019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543480" y="4838760"/>
            <a:ext cx="20444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 u="sng">
                <a:solidFill>
                  <a:srgbClr val="009999"/>
                </a:solidFill>
                <a:uFillTx/>
                <a:latin typeface="Lucida Grande"/>
                <a:ea typeface="Lucida Grande"/>
                <a:hlinkClick r:id="rId3"/>
              </a:rPr>
              <a:t>http://ww2.valdosta.edu/~anmills/sadface.jpg</a:t>
            </a:r>
            <a:endParaRPr b="0" lang="en-US" sz="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"/>
          <p:cNvSpPr/>
          <p:nvPr/>
        </p:nvSpPr>
        <p:spPr>
          <a:xfrm>
            <a:off x="6566040" y="5816520"/>
            <a:ext cx="23238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Lucida Grande"/>
                <a:ea typeface="Lucida Grande"/>
                <a:hlinkClick r:id="rId4" action="ppaction://hlinksldjump"/>
              </a:rPr>
              <a:t>Back to Question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Thanks for exploring Egypt!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1" name=""/>
          <p:cNvSpPr/>
          <p:nvPr/>
        </p:nvSpPr>
        <p:spPr>
          <a:xfrm>
            <a:off x="2925360" y="5854680"/>
            <a:ext cx="2699640" cy="1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 u="sng">
                <a:solidFill>
                  <a:srgbClr val="009999"/>
                </a:solidFill>
                <a:uFillTx/>
                <a:latin typeface="Lucida Grande"/>
                <a:ea typeface="Lucida Grande"/>
                <a:hlinkClick r:id="rId1"/>
              </a:rPr>
              <a:t>http://i.telegraph.co.uk/multimedia/archive/02797/APCAMEL_2797442b.jpg</a:t>
            </a:r>
            <a:endParaRPr b="0" lang="en-US" sz="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116000" y="1371600"/>
            <a:ext cx="6897600" cy="430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Lucida Grande"/>
              </a:rPr>
              <a:t>Nile River</a:t>
            </a:r>
            <a:br>
              <a:rPr sz="3900"/>
            </a:br>
            <a:endParaRPr b="0" lang="en-US" sz="39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04640" y="1283760"/>
            <a:ext cx="4432320" cy="532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04920" indent="-304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is river is the life blood of Egypt. 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04920" indent="-304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It stretches from south to north. 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04920" indent="-304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on river in map to see where it originates.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049720" y="1258920"/>
            <a:ext cx="3810240" cy="46227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427720" y="5951520"/>
            <a:ext cx="367020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 u="sng">
                <a:solidFill>
                  <a:srgbClr val="009999"/>
                </a:solidFill>
                <a:uFillTx/>
                <a:latin typeface="Lucida Grande"/>
                <a:ea typeface="Lucida Grande"/>
                <a:hlinkClick r:id="rId2"/>
              </a:rPr>
              <a:t>http://www.woodlands-junior.kent.sch.uk/Homework/egypt/nile.htm</a:t>
            </a:r>
            <a:endParaRPr b="0" lang="en-US" sz="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">
            <a:hlinkClick r:id="rId3" action="ppaction://hlinksldjump"/>
          </p:cNvPr>
          <p:cNvSpPr/>
          <p:nvPr/>
        </p:nvSpPr>
        <p:spPr>
          <a:xfrm>
            <a:off x="6730920" y="2158920"/>
            <a:ext cx="1067040" cy="35686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"/>
          <p:cNvSpPr/>
          <p:nvPr/>
        </p:nvSpPr>
        <p:spPr>
          <a:xfrm>
            <a:off x="588600" y="6350040"/>
            <a:ext cx="11041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Lucida Grande"/>
                <a:ea typeface="Lucida Grande"/>
                <a:hlinkClick r:id="rId4" action="ppaction://hlinksldjump"/>
              </a:rPr>
              <a:t>Beginning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"/>
          <p:cNvSpPr/>
          <p:nvPr/>
        </p:nvSpPr>
        <p:spPr>
          <a:xfrm>
            <a:off x="2382120" y="6350040"/>
            <a:ext cx="4885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Lucida Grande"/>
                <a:ea typeface="Lucida Grande"/>
                <a:hlinkClick r:id="rId5" action="ppaction://hlinksldjump"/>
              </a:rPr>
              <a:t>Quiz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"/>
          <p:cNvSpPr/>
          <p:nvPr/>
        </p:nvSpPr>
        <p:spPr>
          <a:xfrm>
            <a:off x="3816360" y="6350040"/>
            <a:ext cx="4093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Lucida Grande"/>
                <a:ea typeface="Lucida Grande"/>
                <a:hlinkClick r:id="rId6" action="ppaction://hlinksldjump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06360" y="603360"/>
            <a:ext cx="4889520" cy="2673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04920" indent="-30492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The Nile is formed from the </a:t>
            </a:r>
            <a:r>
              <a:rPr b="1" lang="en-US" sz="2400" spc="-1" strike="noStrike">
                <a:solidFill>
                  <a:srgbClr val="000000"/>
                </a:solidFill>
                <a:latin typeface="Lucida Grande"/>
              </a:rPr>
              <a:t>White Nile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, which originates at Lake Victoria and the </a:t>
            </a:r>
            <a:r>
              <a:rPr b="1" lang="en-US" sz="2400" spc="-1" strike="noStrike">
                <a:solidFill>
                  <a:srgbClr val="000000"/>
                </a:solidFill>
                <a:latin typeface="Lucida Grande"/>
              </a:rPr>
              <a:t>Blue Nile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, which originates at Lake Tana in Ethiopia. These rivers meet in Sudan and then go on their long journey northwards towards the sea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454720" y="603360"/>
            <a:ext cx="3174840" cy="41781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73120" y="3389400"/>
            <a:ext cx="4622760" cy="34686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237280" y="6337440"/>
            <a:ext cx="1257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 u="sng">
                <a:solidFill>
                  <a:srgbClr val="009999"/>
                </a:solidFill>
                <a:uFillTx/>
                <a:latin typeface="Lucida Grande"/>
                <a:ea typeface="Lucida Grande"/>
                <a:hlinkClick r:id="rId3"/>
              </a:rPr>
              <a:t>http://gdb.voanews.eu/017B5B34-C48F-4819-91F4-6E103EB2F908_mw800_s.jpg</a:t>
            </a:r>
            <a:endParaRPr b="0" lang="en-US" sz="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"/>
          <p:cNvSpPr/>
          <p:nvPr/>
        </p:nvSpPr>
        <p:spPr>
          <a:xfrm>
            <a:off x="5454720" y="4781520"/>
            <a:ext cx="3390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 u="sng">
                <a:solidFill>
                  <a:srgbClr val="009999"/>
                </a:solidFill>
                <a:uFillTx/>
                <a:latin typeface="Lucida Grande"/>
                <a:ea typeface="Lucida Grande"/>
                <a:hlinkClick r:id="rId4"/>
              </a:rPr>
              <a:t>http://upload.wikimedia.org/wikipedia/commons/thumb/2/2b/White_and_Blue_Nile-en.svg/250px-White_and_Blue_Nile-en.svg.png</a:t>
            </a:r>
            <a:endParaRPr b="0" lang="en-US" sz="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"/>
          <p:cNvSpPr/>
          <p:nvPr/>
        </p:nvSpPr>
        <p:spPr>
          <a:xfrm>
            <a:off x="7023240" y="5689440"/>
            <a:ext cx="2082600" cy="10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 u="sng">
                <a:solidFill>
                  <a:srgbClr val="009999"/>
                </a:solidFill>
                <a:uFillTx/>
                <a:latin typeface="Lucida Grande"/>
                <a:ea typeface="Lucida Grande"/>
                <a:hlinkClick r:id="rId5" action="ppaction://hlinksldjump"/>
              </a:rPr>
              <a:t>Back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525920" cy="965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Lucida Grande"/>
              </a:rPr>
              <a:t>Great Pyramids</a:t>
            </a:r>
            <a:br>
              <a:rPr sz="3900"/>
            </a:br>
            <a:endParaRPr b="0" lang="en-US" sz="39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79360" y="1239840"/>
            <a:ext cx="4417920" cy="469584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3666ff"/>
            </a:outerShdw>
          </a:effectLst>
        </p:spPr>
        <p:txBody>
          <a:bodyPr lIns="38160" rIns="38160" tIns="38160" bIns="38160" anchor="t">
            <a:normAutofit fontScale="94000"/>
          </a:bodyPr>
          <a:p>
            <a:pPr marL="286560" indent="-2865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Grande"/>
              </a:rPr>
              <a:t>Located in Giza, the Great Pyramids were the resting places of kings and other people of wealth. </a:t>
            </a:r>
            <a:endParaRPr b="0" lang="en-US" sz="2700" spc="-1" strike="noStrike">
              <a:solidFill>
                <a:srgbClr val="000000"/>
              </a:solidFill>
              <a:latin typeface="Lucida Grande"/>
            </a:endParaRPr>
          </a:p>
          <a:p>
            <a:pPr marL="286560" indent="-2865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Grande"/>
              </a:rPr>
              <a:t>Originally covered with a marble type rock, today they look more like the photos on the right.</a:t>
            </a:r>
            <a:endParaRPr b="0" lang="en-US" sz="2700" spc="-1" strike="noStrike">
              <a:solidFill>
                <a:srgbClr val="000000"/>
              </a:solidFill>
              <a:latin typeface="Lucida Grande"/>
            </a:endParaRPr>
          </a:p>
          <a:p>
            <a:pPr marL="286560" indent="-2865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Grande"/>
              </a:rPr>
              <a:t>The Romans defaced them with graffiti and used them for target practice. That’s why the Sphinx doesn’t have a nose.</a:t>
            </a:r>
            <a:endParaRPr b="0" lang="en-US" sz="27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9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15040" y="136440"/>
            <a:ext cx="3684600" cy="24573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862600" y="2624040"/>
            <a:ext cx="33656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 u="sng">
                <a:solidFill>
                  <a:srgbClr val="009999"/>
                </a:solidFill>
                <a:uFillTx/>
                <a:latin typeface="Lucida Grande"/>
                <a:ea typeface="Lucida Grande"/>
                <a:hlinkClick r:id="rId3"/>
              </a:rPr>
              <a:t>http://www.cleveleys.co.uk/wonders/greatpyramid.htm</a:t>
            </a:r>
            <a:endParaRPr b="0" lang="en-US" sz="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0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521320" y="2832120"/>
            <a:ext cx="3165480" cy="39844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886280" y="3259080"/>
            <a:ext cx="6732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 u="sng">
                <a:solidFill>
                  <a:srgbClr val="009999"/>
                </a:solidFill>
                <a:uFillTx/>
                <a:latin typeface="Lucida Grande"/>
                <a:ea typeface="Lucida Grande"/>
                <a:hlinkClick r:id="rId6"/>
              </a:rPr>
              <a:t>http://www.portpromotions.com/media/ecom/prodlg/1215797672_Europe%20-%20Egypt%20-%20Pyramids.jpg</a:t>
            </a:r>
            <a:endParaRPr b="0" lang="en-US" sz="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"/>
          <p:cNvSpPr/>
          <p:nvPr/>
        </p:nvSpPr>
        <p:spPr>
          <a:xfrm>
            <a:off x="550440" y="6324480"/>
            <a:ext cx="11041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Lucida Grande"/>
                <a:ea typeface="Lucida Grande"/>
                <a:hlinkClick r:id="rId7" action="ppaction://hlinksldjump"/>
              </a:rPr>
              <a:t>Beginning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"/>
          <p:cNvSpPr/>
          <p:nvPr/>
        </p:nvSpPr>
        <p:spPr>
          <a:xfrm>
            <a:off x="2763000" y="6324480"/>
            <a:ext cx="4885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Lucida Grande"/>
                <a:ea typeface="Lucida Grande"/>
                <a:hlinkClick r:id="rId8" action="ppaction://hlinksldjump"/>
              </a:rPr>
              <a:t>Quiz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"/>
          <p:cNvSpPr/>
          <p:nvPr/>
        </p:nvSpPr>
        <p:spPr>
          <a:xfrm>
            <a:off x="4362480" y="6324480"/>
            <a:ext cx="4093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Lucida Grande"/>
                <a:ea typeface="Lucida Grande"/>
                <a:hlinkClick r:id="rId9" action="ppaction://hlinksldjump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Camel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02920"/>
            <a:ext cx="3936960" cy="38610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3666ff"/>
            </a:outerShdw>
          </a:effectLst>
        </p:spPr>
        <p:txBody>
          <a:bodyPr lIns="38160" rIns="38160" tIns="38160" bIns="38160" anchor="t">
            <a:normAutofit/>
          </a:bodyPr>
          <a:p>
            <a:pPr marL="304920" indent="-304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When you are at the Great Pyramids, take a camel ride. This is how one travels the desert.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0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08400" y="1417680"/>
            <a:ext cx="3578400" cy="23842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108400" y="3992400"/>
            <a:ext cx="45849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 u="sng">
                <a:solidFill>
                  <a:srgbClr val="009999"/>
                </a:solidFill>
                <a:uFillTx/>
                <a:latin typeface="Lucida Grande"/>
                <a:ea typeface="Lucida Grande"/>
                <a:hlinkClick r:id="rId3"/>
              </a:rPr>
              <a:t>http://www.mythicalireland.com/ancientsites/world/egypt_great_pyramid_camel.jpg</a:t>
            </a:r>
            <a:endParaRPr b="0" lang="en-US" sz="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"/>
          <p:cNvSpPr/>
          <p:nvPr/>
        </p:nvSpPr>
        <p:spPr>
          <a:xfrm>
            <a:off x="524880" y="5981760"/>
            <a:ext cx="11041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Lucida Grande"/>
                <a:ea typeface="Lucida Grande"/>
                <a:hlinkClick r:id="rId4" action="ppaction://hlinksldjump"/>
              </a:rPr>
              <a:t>Beginning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"/>
          <p:cNvSpPr/>
          <p:nvPr/>
        </p:nvSpPr>
        <p:spPr>
          <a:xfrm>
            <a:off x="2483640" y="5981760"/>
            <a:ext cx="4885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Lucida Grande"/>
                <a:ea typeface="Lucida Grande"/>
                <a:hlinkClick r:id="rId5" action="ppaction://hlinksldjump"/>
              </a:rPr>
              <a:t>Quiz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"/>
          <p:cNvSpPr/>
          <p:nvPr/>
        </p:nvSpPr>
        <p:spPr>
          <a:xfrm>
            <a:off x="3956040" y="5981760"/>
            <a:ext cx="4093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Lucida Grande"/>
                <a:ea typeface="Lucida Grande"/>
                <a:hlinkClick r:id="rId6" action="ppaction://hlinksldjump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84280" y="-168120"/>
            <a:ext cx="8229600" cy="1141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Quick Quiz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52440" y="759960"/>
            <a:ext cx="3835440" cy="5031000"/>
          </a:xfrm>
          <a:prstGeom prst="rect">
            <a:avLst/>
          </a:prstGeom>
          <a:noFill/>
          <a:ln w="12600">
            <a:solidFill>
              <a:srgbClr val="00ffff"/>
            </a:solidFill>
            <a:miter/>
          </a:ln>
          <a:effectLst>
            <a:outerShdw dist="12600" dir="5400000" blurRad="0" rotWithShape="0">
              <a:srgbClr val="3666ff"/>
            </a:outerShdw>
          </a:effectLst>
        </p:spPr>
        <p:txBody>
          <a:bodyPr lIns="38160" rIns="38160" tIns="38160" bIns="38160" anchor="t">
            <a:normAutofit fontScale="96000"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Grande"/>
              </a:rPr>
              <a:t>What is a traditional form of desert transportation in Egypt?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Grande"/>
                <a:ea typeface="ヒラギノ角ゴ ProN W3"/>
              </a:rPr>
              <a:t>	</a:t>
            </a:r>
            <a:r>
              <a:rPr b="0" lang="en-US" sz="3600" spc="-1" strike="noStrike" u="sng">
                <a:solidFill>
                  <a:srgbClr val="009999"/>
                </a:solidFill>
                <a:uFillTx/>
                <a:latin typeface="Lucida Grande"/>
                <a:ea typeface="ヒラギノ角ゴ ProN W3"/>
                <a:hlinkClick r:id="rId1" action="ppaction://hlinksldjump"/>
              </a:rPr>
              <a:t>a. bus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Grande"/>
                <a:ea typeface="ヒラギノ角ゴ ProN W3"/>
              </a:rPr>
              <a:t>	</a:t>
            </a:r>
            <a:r>
              <a:rPr b="0" lang="en-US" sz="3600" spc="-1" strike="noStrike" u="sng">
                <a:solidFill>
                  <a:srgbClr val="009999"/>
                </a:solidFill>
                <a:uFillTx/>
                <a:latin typeface="Lucida Grande"/>
                <a:ea typeface="ヒラギノ角ゴ ProN W3"/>
                <a:hlinkClick r:id="rId2" action="ppaction://hlinksldjump"/>
              </a:rPr>
              <a:t>b. train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Grande"/>
                <a:ea typeface="ヒラギノ角ゴ ProN W3"/>
              </a:rPr>
              <a:t>	</a:t>
            </a:r>
            <a:r>
              <a:rPr b="0" lang="en-US" sz="3600" spc="-1" strike="noStrike" u="sng">
                <a:solidFill>
                  <a:srgbClr val="009999"/>
                </a:solidFill>
                <a:uFillTx/>
                <a:latin typeface="Lucida Grande"/>
                <a:ea typeface="ヒラギノ角ゴ ProN W3"/>
                <a:hlinkClick r:id="rId3" action="ppaction://hlinksldjump"/>
              </a:rPr>
              <a:t>c. taxi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Lucida Grande"/>
                <a:ea typeface="ヒラギノ角ゴ ProN W3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Grande"/>
                <a:ea typeface="ヒラギノ角ゴ ProN W3"/>
              </a:rPr>
              <a:t>	</a:t>
            </a:r>
            <a:r>
              <a:rPr b="0" lang="en-US" sz="3600" spc="-1" strike="noStrike" u="sng">
                <a:solidFill>
                  <a:srgbClr val="009999"/>
                </a:solidFill>
                <a:uFillTx/>
                <a:latin typeface="Lucida Grande"/>
                <a:ea typeface="ヒラギノ角ゴ ProN W3"/>
                <a:hlinkClick r:id="rId4" action="ppaction://hlinksldjump"/>
              </a:rPr>
              <a:t>d. camel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1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402080" y="2522520"/>
            <a:ext cx="4460760" cy="29703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052960" y="5583240"/>
            <a:ext cx="419112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 u="sng">
                <a:solidFill>
                  <a:srgbClr val="009999"/>
                </a:solidFill>
                <a:uFillTx/>
                <a:latin typeface="Lucida Grande"/>
                <a:ea typeface="Lucida Grande"/>
                <a:hlinkClick r:id="rId7"/>
              </a:rPr>
              <a:t>http://www.worldhistoricalsites.com/images/Valley%20of%20the%20Kings.jpg</a:t>
            </a:r>
            <a:endParaRPr b="0" lang="en-US" sz="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"/>
          <p:cNvSpPr/>
          <p:nvPr/>
        </p:nvSpPr>
        <p:spPr>
          <a:xfrm>
            <a:off x="715680" y="6159600"/>
            <a:ext cx="11041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Lucida Grande"/>
                <a:ea typeface="Lucida Grande"/>
                <a:hlinkClick r:id="rId8" action="ppaction://hlinksldjump"/>
              </a:rPr>
              <a:t>Beginning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"/>
          <p:cNvSpPr/>
          <p:nvPr/>
        </p:nvSpPr>
        <p:spPr>
          <a:xfrm>
            <a:off x="3270240" y="6159600"/>
            <a:ext cx="4093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Lucida Grande"/>
                <a:ea typeface="Lucida Grande"/>
                <a:hlinkClick r:id="rId9" action="ppaction://hlinksldjump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"/>
          <p:cNvSpPr/>
          <p:nvPr/>
        </p:nvSpPr>
        <p:spPr>
          <a:xfrm>
            <a:off x="5653440" y="1981080"/>
            <a:ext cx="1974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Valley of the King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Correct! 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20" name="nonlinear ppt.ppt_media/Winner-14.mov" descr=""/>
          <p:cNvPicPr/>
          <p:nvPr/>
        </p:nvPicPr>
        <p:blipFill>
          <a:blip r:embed="rId1"/>
          <a:stretch/>
        </p:blipFill>
        <p:spPr>
          <a:xfrm>
            <a:off x="546120" y="5803920"/>
            <a:ext cx="673200" cy="6732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7101720" y="6159600"/>
            <a:ext cx="1547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Lucida Grande"/>
                <a:ea typeface="Lucida Grande"/>
                <a:hlinkClick r:id="rId2" action="ppaction://hlinksldjump"/>
              </a:rPr>
              <a:t>Next Question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"/>
          <p:cNvSpPr/>
          <p:nvPr/>
        </p:nvSpPr>
        <p:spPr>
          <a:xfrm>
            <a:off x="2819520" y="4952880"/>
            <a:ext cx="48639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 u="sng">
                <a:solidFill>
                  <a:srgbClr val="009999"/>
                </a:solidFill>
                <a:uFillTx/>
                <a:latin typeface="Lucida Grande"/>
                <a:ea typeface="Lucida Grande"/>
                <a:hlinkClick r:id="rId3"/>
              </a:rPr>
              <a:t>http://images.clipartpanda.com/laughing-smiley-face-clip-art-smiley-face-clip-art10.jpeg</a:t>
            </a:r>
            <a:endParaRPr b="0" lang="en-US" sz="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2908440" y="1612800"/>
            <a:ext cx="3327120" cy="332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Sorry-Try again!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25" name="nonlinear ppt.ppt_media/Just Stand Up-12.mov" descr=""/>
          <p:cNvPicPr/>
          <p:nvPr/>
        </p:nvPicPr>
        <p:blipFill>
          <a:blip r:embed="rId1"/>
          <a:stretch/>
        </p:blipFill>
        <p:spPr>
          <a:xfrm>
            <a:off x="723960" y="5384880"/>
            <a:ext cx="673200" cy="6732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2946240" y="1511280"/>
            <a:ext cx="3251520" cy="32511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543480" y="4851360"/>
            <a:ext cx="261612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 u="sng">
                <a:solidFill>
                  <a:srgbClr val="009999"/>
                </a:solidFill>
                <a:uFillTx/>
                <a:latin typeface="Lucida Grande"/>
                <a:ea typeface="Lucida Grande"/>
                <a:hlinkClick r:id="rId3"/>
              </a:rPr>
              <a:t>http://www.icon100.com/up/3923/256/28-Sad-face.png</a:t>
            </a:r>
            <a:endParaRPr b="0" lang="en-US" sz="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"/>
          <p:cNvSpPr/>
          <p:nvPr/>
        </p:nvSpPr>
        <p:spPr>
          <a:xfrm>
            <a:off x="6224760" y="5969160"/>
            <a:ext cx="20700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Lucida Grande"/>
                <a:ea typeface="Lucida Grande"/>
                <a:hlinkClick r:id="rId4" action="ppaction://hlinksldjump"/>
              </a:rPr>
              <a:t>Back to Question 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411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2. What river provides the life blood of Egypt?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Lucida Grande"/>
                <a:hlinkClick r:id="rId1" action="ppaction://hlinksldjump"/>
              </a:rPr>
              <a:t>Blue Danube River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Lucida Grande"/>
                <a:hlinkClick r:id="rId2" action="ppaction://hlinksldjump"/>
              </a:rPr>
              <a:t>Fox River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Lucida Grande"/>
                <a:hlinkClick r:id="rId3" action="ppaction://hlinksldjump"/>
              </a:rPr>
              <a:t>Nile River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Grande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Lucida Grande"/>
                <a:hlinkClick r:id="rId4" action="ppaction://hlinksldjump"/>
              </a:rPr>
              <a:t>Amazon River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3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338720" y="2676600"/>
            <a:ext cx="4373640" cy="29224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621400" y="5846760"/>
            <a:ext cx="199368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 u="sng">
                <a:solidFill>
                  <a:srgbClr val="009999"/>
                </a:solidFill>
                <a:uFillTx/>
                <a:latin typeface="Lucida Grande"/>
                <a:ea typeface="Lucida Grande"/>
                <a:hlinkClick r:id="rId7"/>
              </a:rPr>
              <a:t>http://www.losviajeros.com/Fotos.php?pl=2085</a:t>
            </a:r>
            <a:endParaRPr b="0" lang="en-US" sz="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W Oshkosh</dc:creator>
  <dc:description/>
  <dc:language>en-US</dc:language>
  <cp:lastModifiedBy/>
  <cp:revision>0</cp:revision>
  <dc:subject/>
  <dc:title>Egypt: The Land of Wonder</dc:title>
</cp:coreProperties>
</file>